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2C39-D29A-4ABA-A98F-F358AC8E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DF9-C512-4067-B0E2-21FB3737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82D3-B9F5-4EDA-9251-E9751349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AAF6-72BC-4F60-B772-06D43917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2021-7122-4B4B-AC04-943BE107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968E-CCFD-4AF2-8F00-833C51E5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23D9-58A9-494E-9960-29A5D77A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1F25-B3B6-471A-B276-59A967DD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593A-BD8D-445A-9D5E-28A005C4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2584-EADE-4DC0-9E68-070733EA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24CC-864B-4F8E-A7FA-62A2B8AA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7362-19D9-4A5F-8B3A-B5BFEF42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2040-0B13-43AD-BC2D-C0C8834E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2DE6-954C-4082-8990-16D7F293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E589-8880-48FB-A4B9-1F072610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AC13-7311-42FF-95BE-3DAB6067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7BD2-8170-4F7D-ACC6-6A29B6DF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D4306-FC99-4559-9E99-80DAE622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C6E23-A0B1-4D03-BAC2-DEA6597D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DF396-4924-4A6C-BD4B-55CE4575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A00D5-AB5B-4B12-8CEE-6A47AE4A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39377-127A-4E72-9026-BF5B00D3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F6CA-280E-4A0F-8590-3E3BCFE9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14A64-8CC4-4DFA-B297-8D2247C2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D66946-22BB-4959-8BFD-2A18C301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1512B-1C48-4660-8118-141269AF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3E549-ED6B-45FF-88E1-6A0E0005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69B0B9-39A9-41C7-A9D8-7621055D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D80D1-8E84-4E31-9C78-D642A5C2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C0EAF-4D48-4B18-B069-36CE7DB4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7C989-B092-4B84-B06E-720D19B6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55070-A062-42D5-BFFA-DF0461E6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D43CC-596F-43C5-99BD-9B41CD15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350-E01A-4B67-9C4A-FFD80CFD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DA910-5501-4A96-81CD-96B6B3B9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ED659-32F0-4F89-BCAD-A770B229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BC1CC-BACF-4F9E-BA82-ED32D4F9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CC809-CFED-4F66-B551-3B7C90F4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996F5-2C2F-4E0E-A435-8A236924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BE9DF-B72E-406C-A8A1-CEE5ED3D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2C7E7-31A7-46CD-BDE2-FF86F063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AEDB4-30D8-4393-905F-2FAA4D63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37B1C-165D-486D-8226-7E4072BE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94A-BE79-4933-86B8-A8F2AFF1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844-641C-4DD3-B506-ECFDB0C3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568-EF45-4D96-8F6C-FD9988C3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56F-177D-49BD-99F3-FDAFE325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0D9-91AF-4C88-AA01-EF9FEADC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6806-15E6-4EC7-875C-9D579FA968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B9FB-263B-405E-82AF-6C4F0CEFB3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7B29-2641-4262-B668-9134BFBB58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E8DC-7043-44F6-98F1-1F46B501AD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lecting a Reader and a Text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electing a Reade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p and run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ading nee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re information nee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n-proficient reader**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lect Dat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urke Reading Inventory (p. 273/275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ading Surve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ading Conferenc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electing a tex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lete tex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familiar to reader but familiar concep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lightly challeng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esting to stud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gen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iction must have a story lin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nfiction must develop at least one concept or fully describe an act or ev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nimum of 500 words (two books for younger reader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ext Features to Conside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plexity of concep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terest to the read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predictable beginning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eaks in the traditional sequence of ev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formation that is irrelevant to the entire tex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usual punctuation or pri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familiar language features (including dialec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ew and unfamiliar inform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eparing the Typescrip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ould look just like original tex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Line length, spelling, punctu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a large font (at least 1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iple space between lines and between wo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solid horizontal line to signify the end of each p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umber the lines for each p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repare Retelling Guide </a:t>
            </a: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(p. 51/260/271)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o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List of character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ain even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etting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ssign points to each ite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lude additional space for a plot summary and them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n-fi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List of main concep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etail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ain idea of passag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ssign points to each ite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Your Tas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ine several texts for features that support and impe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examples of texts that may create barriers for studen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e there texts that you use, for example, that you find many students miscue in the same places?  Could this be an issue with the tex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n the Wiki, describe one text that you examined that may create a barrier for some reade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2:28:55Z</dcterms:created>
  <dc:creator>College of Education</dc:creator>
  <dc:description/>
  <dc:language>en-US</dc:language>
  <cp:lastModifiedBy>Linda Wedwick</cp:lastModifiedBy>
  <dcterms:modified xsi:type="dcterms:W3CDTF">2009-05-31T18:28:59Z</dcterms:modified>
  <cp:revision>12</cp:revision>
  <dc:subject/>
  <dc:title>Selecting a Reader and a Text</dc:title>
</cp:coreProperties>
</file>